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542000" cy="26211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6F6461-6D49-44E6-B8B2-655A5AA75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999CB6-E969-4ADA-A0FE-90BB78D9111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1668744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27000" y="14073840"/>
            <a:ext cx="1668744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2700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947772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68920" y="613332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211200" y="613332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27000" y="1407384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6568920" y="1407384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2211200" y="1407384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927000" y="6133320"/>
            <a:ext cx="1668744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1668744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927000" y="1045800"/>
            <a:ext cx="16687440" cy="20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92700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47772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27000" y="14073840"/>
            <a:ext cx="1668744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  <Words>46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31:13Z</dcterms:modified>
  <cp:revision>12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